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7B79-8E3D-4F82-B55B-9A4FE5A3E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0274-85E7-4B4F-8E3C-70F1A356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715D-A78A-4A91-9EC0-3BDB5CF76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E2C2-F8EB-4EB3-935F-4C312B0B1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0419-A585-41D0-A6A3-CEB8BB457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91EB-C1FD-45DF-837D-EE730297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32EA3-6909-4159-A7B8-8CAC619A6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2FFD0-942B-407F-8B45-73EC6C4C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93DB-4414-4CC8-BF82-C3EDA297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E463-BC19-4E45-9312-14BAF612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0FAC-737E-4393-9FA4-364053BD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5E7D-89AD-479C-AB90-DFF5C2A2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BF63-1DC2-4239-8C7F-C7BF4D5D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8D84E-26BA-49B9-9E39-4D18E4B3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06CAF-3515-4FDC-874C-83E09658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BF5B-1AB7-4A09-99A1-BE34BA293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74C1-4273-4F6D-95D3-6C01B1D75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8D8E-BF8D-4402-9EF6-662D46F5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0DCF-CB86-465B-8695-C0784D6F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23BA-90A0-4CD1-89F6-61FD50F0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D52D-C37C-40EA-80EA-04EC33BE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4906-2CFF-4EB1-96D0-160761DF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D0F7-7F3E-4853-A9D7-58B7B5E4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323D-05A2-4BBE-B30E-7FA03722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7F6C-5B08-42D3-AA54-E81BF71E88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AFBB-50F7-4E1F-99E7-65351F570F12}" type="slidenum">
              <a:rPr b="0" lang="cs-CZ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Konceptuální rámec výzkumu -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úko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4" descr="64-T"/>
          <p:cNvPicPr/>
          <p:nvPr/>
        </p:nvPicPr>
        <p:blipFill>
          <a:blip r:embed="rId1"/>
          <a:stretch/>
        </p:blipFill>
        <p:spPr>
          <a:xfrm>
            <a:off x="2627280" y="260280"/>
            <a:ext cx="34066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Techniky sběru a analýzy d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ahoma"/>
              </a:rPr>
              <a:t>Předpokládané přínosy výzkumu pro teorii/vědu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ahoma"/>
              </a:rPr>
              <a:t>Předpokládané přínosy výzkumu pro prax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Tahoma"/>
              </a:rPr>
              <a:t>Použité zdroje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182600" y="1628280"/>
            <a:ext cx="7772400" cy="45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ázev disertační prá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méno a příjmení doktora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méno a příjmení školite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Oblast výzkum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Literární rešerš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ahoma"/>
              </a:rPr>
              <a:t>Výzkumný problém a hlavní cíl výzkumu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Výzkumné otáz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Dílčí výzkumné cí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Hypotéz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Volba met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94920" y="2017800"/>
            <a:ext cx="855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02T20:27:22Z</dcterms:created>
  <dc:creator>Pavelková Drahomíra</dc:creator>
  <dc:description/>
  <dc:language>en-US</dc:language>
  <cp:lastModifiedBy>Drahomíra Pavelková</cp:lastModifiedBy>
  <dcterms:modified xsi:type="dcterms:W3CDTF">2019-09-11T19:13:49Z</dcterms:modified>
  <cp:revision>2</cp:revision>
  <dc:subject/>
  <dc:title>      Konceptuální rámec výzkumu - úk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